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>
              <a:spcBef>
                <a:spcPts val="901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>
              <a:spcBef>
                <a:spcPts val="901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ffffff"/>
                </a:solidFill>
                <a:latin typeface="Chalkboard"/>
                <a:ea typeface="Heiti SC Light"/>
              </a:rPr>
              <a:t>第十八章：</a:t>
            </a:r>
            <a:r>
              <a:rPr b="0" lang="en-US" sz="5500" spc="-1" strike="noStrike">
                <a:solidFill>
                  <a:srgbClr val="ffffff"/>
                </a:solidFill>
                <a:latin typeface="Chalkboard"/>
                <a:ea typeface="Heiti SC Light"/>
              </a:rPr>
              <a:t>Foundation</a:t>
            </a:r>
            <a:r>
              <a:rPr b="0" lang="zh-CN" sz="5500" spc="-1" strike="noStrike">
                <a:solidFill>
                  <a:srgbClr val="ffffff"/>
                </a:solidFill>
                <a:latin typeface="Chalkboard"/>
                <a:ea typeface="Heiti SC Light"/>
              </a:rPr>
              <a:t>框架简介</a:t>
            </a:r>
            <a:endParaRPr b="0" lang="en-US" sz="55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框架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69720" y="260352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框架是由许多类、方法、函数、文档按照一定的逻辑组织起来的集合，以便使研发程序变得更容易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在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OS X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下的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Mac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操作系统中大约有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80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个框架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为所有程序开发奠定基础的框架称为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Foundation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框架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Foundation</a:t>
            </a: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框架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Foundation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框架允许使用一些基本对象，如数字和字符串，以及一些对象集合，如数组，字典和集合，其他功能包括处理日期和时间、内存管理、处理文件系统、存储（或归档）对象、处理几何数据结构（如点和长方形）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urier New Bold"/>
                <a:ea typeface="Courier New Bold"/>
              </a:rPr>
              <a:t>Cocoa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是</a:t>
            </a: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Foundation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和</a:t>
            </a: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AppKi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urier New Bold"/>
                <a:ea typeface="Courier New Bold"/>
              </a:rPr>
              <a:t>Cocoa Touch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是</a:t>
            </a: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Foundation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和</a:t>
            </a: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UIKi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Foundation</a:t>
            </a: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框架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Foundation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框架中大约有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125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个可用的头文件，作为一个简单的形式，可以简单地使用以下语句导入 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: </a:t>
            </a:r>
            <a:r>
              <a:rPr b="0" lang="en-US" sz="3600" spc="-1" strike="noStrike">
                <a:solidFill>
                  <a:srgbClr val="ffff00"/>
                </a:solidFill>
                <a:latin typeface="Chalkboard"/>
              </a:rPr>
              <a:t>#import &lt;Foundation/Foundation.h&gt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因为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Foundation.h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文件实际上导入其他所有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Foundation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框架中的头文件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